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3C3-D768-445F-958C-1A99B417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671-FA10-4259-8156-AFC428B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A01-A3D5-497E-8AE9-74CBFD73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C28-38D3-408E-8C8E-99B03E0D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CA7-E5AF-4A4E-96C0-924E77F0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A39A-EF00-4441-AB70-059CE20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EA3-253A-4A89-8482-5AC49FEC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CF16-B8A8-493F-A6B9-5DBE57B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6C86-C7BF-40E7-8E64-0DCAD5C7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BE73-4EBE-42B8-9E11-BF95915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DB3-584D-450C-A790-D5956D7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934-603E-4A23-829E-47DD5E0B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E762-31D2-42F4-B1E6-D3AD6BC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9BD6-BC6E-42A9-BF47-4D06FD5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4CE-2448-4CF5-97F2-46E0A95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B6D-2774-4B62-82D2-C4FF3A68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525D-7ACE-4E9C-B87C-DB6419CB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3431-568E-441A-803B-2E18C86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3D77-FCFD-49E8-A005-05AEE4A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5452-7FA7-452A-86FB-74659D8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71C7-3FD1-4609-91D1-7B2DCAA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7B5C-0210-44F6-AE82-FE687A0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C3F-2210-483F-AA96-5CECDAB9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FE11-F4B2-46BD-859B-A4F87F51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0E1E-5195-4975-AD67-03E007D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C921-65CB-4486-A4A1-F0F05BA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EBE1-8AA5-4BEF-8E13-C86E6EE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A372-3982-4C09-90BD-1F642499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A1CA-044E-400F-85F5-C763885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A305-5208-4468-81CB-948B53EE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7F61-1F1D-4DBA-8A05-27D6A2BF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2A83-CE76-4D2F-835A-C04EC1A9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265E-01A3-43CF-9968-59BCB4D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319-ED8E-46E2-BB1A-93B2885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68AE-9620-4CF8-8A01-3DEC1CF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ADB8-C900-4A84-9705-F0E087E1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4FD8-BA79-4DD4-9A74-7F5D0771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6DB0-A840-410C-A3D9-E175948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F686-6C62-4280-9FE9-62AC90E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3C6F-BD02-4247-88EE-5A2D689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CCBB-9599-4FD5-943E-AE863DF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77F3-2094-4797-8877-80991E8C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C910-A7EC-4A8C-B3D7-30F935B7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E3B4-8552-4E01-B6AA-28D03817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C36-855D-461D-B304-6B55F77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69290-3E3F-46B9-93D8-CAC4EF4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AEE4-B9F7-4AE8-AA97-3D54110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8ACA-B70B-49F6-9296-61544B0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A51C-5DA3-4063-AA3A-4149B82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81912-BC3C-442C-845A-BD3F632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4F1A-B6D8-41AA-9C5A-386197E6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0EAB-ADA1-43B2-B237-159E725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6A1F-C2BD-4E27-90FB-96DAB36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EEB2-6ED7-4C93-9646-9E3C291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C54E-27D4-49E5-9E51-B5DF7A0E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64C-3CEC-422A-8540-BA16FEF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D953-4E4D-40F3-A290-A696AA36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FBC7-52E4-4AB1-B656-682941E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1240-F467-4D22-B7A6-E568A4BE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FC5E-9175-45F8-BA66-7688F03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B6720-C82C-4E73-87DE-9A75EEB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9682-E9B1-4A40-A26C-1B698893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90F4-8D4E-469B-828D-C686CF3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39A6-7E7C-4F3A-8013-205DF81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68D0-96AB-4154-946C-A0328B5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C55C-64AF-49BC-98E3-8D1BB2E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DE-F9AE-4EDD-994B-6175BF8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5C30-A775-4A2F-BC2B-F077043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FBD53-0B08-4BA1-8856-2AABDB79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E0F6-AF86-4DCC-A55D-A3145B92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8C54-12BC-4D5A-A878-762AC39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67E8-278D-4BEF-867E-4828E76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79C3-BC4D-4095-BEA0-3083593E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36E3-81FB-46DF-A8CF-F747B4E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6326-74D4-4068-B563-B31028FC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2BEF-1A46-4D71-B74E-116D1EE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9E21-7DEA-4F69-8806-737E2F3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4D9-1472-4686-9261-320D975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BBB30-6ACD-4677-A289-64A31B2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E1A8-86D9-4FD5-BCF2-127FBAC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45126-0FC3-4511-9E63-E53F72B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1186-2EC1-49D7-BC0E-E6AAA73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AA00-932C-42EC-8BDC-C954DB66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C58-73A5-4344-89B6-C85BCE4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315D-307B-44E3-8BC1-34835B81D8A6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3583-1D5A-4D5B-9431-D066FAD95373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A3D1-F6D7-4683-9ADC-4CA8ECE1CC25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9863-561E-41BB-B64E-F91D57754100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1EF8-A1BB-44B0-8903-8F045229BF86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BA3-C0AE-4AE7-91AF-B496E2DB88C7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D1C-EFB7-464F-BA9C-AF0720D438A9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e109178</cp:lastModifiedBy>
  <dcterms:modified xsi:type="dcterms:W3CDTF">2012-11-26T15:01:01Z</dcterms:modified>
  <cp:revision>43</cp:revision>
  <dc:subject/>
  <dc:title>Student Internet Use</dc:title>
</cp:coreProperties>
</file>